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dt" idx="15"/>
          </p:nvPr>
        </p:nvSpPr>
        <p:spPr>
          <a:xfrm>
            <a:off x="3884760" y="-36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ldImg"/>
          </p:nvPr>
        </p:nvSpPr>
        <p:spPr>
          <a:xfrm>
            <a:off x="985320" y="733320"/>
            <a:ext cx="4883400" cy="366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body"/>
          </p:nvPr>
        </p:nvSpPr>
        <p:spPr>
          <a:xfrm>
            <a:off x="685440" y="4642920"/>
            <a:ext cx="5483160" cy="43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sldNum" idx="16"/>
          </p:nvPr>
        </p:nvSpPr>
        <p:spPr>
          <a:xfrm>
            <a:off x="3884760" y="928332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34B26D-623F-47F2-A1AC-51D0F3B19F3F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BBF4BC1-6B2A-4E8C-8422-827F168AC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F594715-BC91-4154-9236-B0D543B9B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A46FC55-3902-45F5-912A-27C6C18D4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2E82CD-E671-4ADB-A7F6-E5B696E6A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DA6DBD-1825-457A-A8F9-D19399390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554309-94D1-49C4-B6E2-4FC8A5C4C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798922-42DE-44E4-BA56-A675643F7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092696-F762-4F8B-B31C-EB9225C6F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E97D27-EE00-44D5-AA50-F83F6FE94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F6103D-3757-487A-AC3D-D6AA83BDA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A321B3-9509-4B4E-BCEA-A242A3100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44BAAA-855F-49EA-AA6C-14628B1B7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2BCAE8-1CA4-436B-9826-BF945560B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58987F-D44D-4546-A4EA-1232CFD08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71FD8D-E97F-493A-81FD-43AB7BEBA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F8EBC8-350B-4217-AF4C-DC773521B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8EDCD3-E572-44F8-B5B9-934B0CA6C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90E227-954F-45A0-8917-A50A78E9F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1C19F7-17BF-4552-963C-DFCF7FA53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7D52A4-F6BF-4215-A400-741BB12AE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EA35F5-E0E3-42CC-943C-192FDFF8E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6551B2-BDBE-40BC-BB34-F893F81AD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8E5275-DF87-4581-B5A9-35FE09DD9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96947-F6D5-4894-9027-591C3339FB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D651B-4673-415F-859E-A36E38BD082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06DD1-3294-4EFA-850E-D535424344B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13262-289F-480C-9615-164DB94ABEF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AB95A-5835-43CD-9D4B-63583417FFB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66306-4BAB-4219-9C75-6276C9CBC2E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A0039-A6B3-46AE-B361-90062139298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62F32-CF2A-4532-88F4-374B034D34B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9FD10-C53A-447D-9EC9-8B724D80E68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D3162-B868-4B14-80AD-EA6DA45F700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18734-F65B-48DF-BBFD-1DED609B628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7494C4-2E8C-46B6-AAF1-0491CBF8A5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1B6CC-5BB9-498D-B21C-504E9C7FA1B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DC7E98-9A89-42DF-8BA8-8E4A114B158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04E1CB-9334-4FB7-9D17-6C37FB1012A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00195C-C072-4F8C-B12B-5DB9C2280BB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3C26DA-B96C-4FAD-9DB0-89687CE5919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352F15-EE41-40D0-A94A-10C0923729A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FB35DE-4EA2-4AD2-A8DB-7A60A2D3301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6A89D0-8CB0-4985-B3B2-BF0C7BAF1B8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72B790-CA25-4A66-BBCB-24EE8C854F0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209230-8AC3-4FC3-A279-CDF3C05504B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85DF9C-5253-46B9-8FC0-12C8813EF8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A08E0-04AF-4F6F-8CC1-9129E8BDB99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7E6822-9125-4831-BD67-173EF164DD5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807A59-9CBC-41CA-89AD-74FAD8BB1EC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ADAE79-8E00-4868-A646-26D5ABEA6CF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C880BA-9A4A-47EE-929D-987D875703B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6BCFFB-2E8F-47E9-8E85-A3FA5924ADF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86A558-25C4-4075-BFAF-272FD808100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B99E00-1CE1-4D9E-8C88-FB97BB51D4B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E8679F-5FA5-40BD-9D75-6498308F75D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1B2974-0BC4-45E7-B7F3-F7208F46641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4F67E8-F18F-4525-8696-9F3E49EFF1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EC6A2-6C3C-4519-AE1E-AB45FAE451F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E663B0-099E-45E2-88F0-EE93973635B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E0B02E-54CF-40A3-98FE-4458935842B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2A6502-3BF8-465A-A9BB-F0EBAED031C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6A21E-C00F-42E9-9338-938B8BDDE6C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D627D-A074-4DC3-9104-8BF24622631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5DA61-4560-43E0-B98B-98449A1DDD3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20F70-F330-47E9-A75C-68E59ECC8C9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8DD3F-999E-46C3-9B82-D7DDCA5B728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8E70F-77C5-4329-89DA-637E67D308B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5E83A-788D-44FB-836A-2FA17A2F74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C617A-BAC9-40B1-A86A-F1A2E616DA2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875F0-420C-4B2B-B796-7469B4FDE31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53124-CDC5-48FB-BD08-0A4B914B843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DCB9A-6929-4B81-BCBB-9CF344CA12D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0E746-5675-4AA2-B3B1-CF27D5A6910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24DFA-57A9-420E-A3C9-409C18D8E19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356157-8F25-42F1-97DE-74351A4C35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E8962B-AD25-48EE-BB63-4ADCCF1D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EAD46F-98D5-4C1F-9129-6E6A8E9B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31DE41-8FF4-4872-A4E7-787B4327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D5C48A-5938-4DAE-A679-4EDA9B06B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83103-C6C5-449F-9C82-998B0295891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757836-0A1E-4ED5-8943-85E084BC3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B48CA3-40A0-4745-B438-F9FF9D1D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3E49EF-BDB4-4FE6-961C-06B8E4FE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7B30C0-8E15-43EB-BBC6-973008B1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D73C79-3AF8-4543-B8F5-DC1D5C53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5BC678-D058-4E0A-B02E-A08D9A0A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C7C031-C65A-4BA0-B8BE-19812C06AA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4B18C-5BE6-41FC-90F5-56A9F9256F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E41C4-2145-4DEC-A53D-A8D48E1B9E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D1195-292F-46BB-B458-FA5ABE7F82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AFB60-F816-4E9F-886D-FE24649FC0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84095-204F-46E6-98C8-2EB7E3DF19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7F734-80D6-4901-B6E6-13BF09863E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C0326-3BFA-4225-B4CA-FF246A2A5A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0959F-6F70-412F-9C24-414FC04E40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54666-5FC8-4E52-B873-9D639D4868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74789-A641-43EF-9725-7D0E12B07F5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5F23-70C6-401B-BBCB-9D59ABE606F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A7A0-40E1-4C7B-BD37-F7192A8CF79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8770-2006-4141-8E5A-FECB3C45004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D9A5-628B-49CA-A74B-ACB73CCB250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CD7C-02A7-4518-A9DC-2AC25140E9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15CF3-1A30-4251-9B81-6FE069F21DB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CD4B-0FB7-4239-8B12-D69E0628E02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E04D-3DDA-44AD-A4A7-B75DF987E23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F2A4-C8FF-40CE-86ED-C234B5B7BBA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0730-BF1B-47CB-8855-A1E530CE0AE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6646-FFF9-49EE-B0DE-1F2D03315F1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E70A-95AC-416A-9D0F-07C025D89E8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FBB7-C9B3-4715-9039-DB7542EF64E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FA073-91AE-4C67-84E4-FDB83BB141E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D312D-93A7-46B3-9305-8FF279452AB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9C8A11-AF93-4F08-8242-31B23726A0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D1AEF-087E-4160-8F1C-77AEC21DA57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1BAAE-BC08-4705-A352-93BF87B52AA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EDBA9-8821-4596-8DD9-72142D4402C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1D394-8BC4-4B1F-B4ED-C851334265F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3CBA5-4AE1-41AF-9F28-E5990ABCF19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67BEE-B005-4E30-A675-27FA1AEBA4C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EFEA7-DD43-4A86-B61D-39033F33DEE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50350-9508-4B99-82B5-53C0AB0D8AF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6249B-6747-44FF-B378-56956C21F0D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DD3F3-736C-44AC-BAE4-11510BC1BA3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16CF0-FFA4-4FE1-9F82-6499447D4C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5F438-2580-45D9-8176-42A24A96620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CABB3-2FFF-4CF8-ABAE-1701B307351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261CE-C2BF-4762-9F03-AB39773FC81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0BB77-FA36-4CC4-BC52-5A4EA3616FC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D0418-F018-4684-B537-02870CBF956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90A4B-9FB6-4CF3-9264-80788C5D8F3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5332B-EA6F-47B1-9B88-0661DFEEAFE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52AC7-8EB7-432F-9A23-24778AD1DD7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E65A6-4C1D-40C7-A7D3-F93E558753E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1D56D-F592-41EE-8D57-B8AB147EE67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97CAD-F793-4E6E-8BD0-D489D53CA1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AB3FB-789C-4492-8FD2-6DBEDAD24F4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70CF3-5021-48A4-8806-A0E88BE182C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C60C-C5BF-4527-BF8D-7F3A3AB72DA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0F0C-1237-4401-8C67-ABBCCAAA52E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ABB6-D3F4-43F9-A93E-0512E94783F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D826-8D4E-43ED-866A-47322045DB7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AE63-8381-455F-B5A8-6326C1613BC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901D-DBAD-4A1C-95DB-CCA8F41B86E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9A1B-8BD0-4F24-B45A-303573A4D3D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F085-BECB-4A3D-944F-F1DC9FF1938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087B-F338-4EDF-9A07-88B21E4CF5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9D3D8-6A34-4336-A8AA-A0022C83804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8B09-09E7-47DE-B9C4-61F3571252E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54BD-0567-4464-B94F-99813A6790D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A15B-D85A-4DD3-9D31-AA4D2750590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A94BD3-5893-4B3E-9B85-8CABC8D862B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A835C2-7C49-4BD5-96A1-7B422D99FE7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E8B4CF-F35A-42E8-B70E-1E02C2C626C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1E3EE9-E721-4091-8448-E446A3AA74F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AC9AA5-5750-4422-B38F-F4AA959F72A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2C224A-0407-4D0C-AEC8-EEACC567E0C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283E11-1270-4145-9AB6-B15258E029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78D63-AFCB-4AFE-A336-8A085C2420A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D37705-54B7-427E-90B0-10C10960E66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B1A6AA-0C8B-4A2D-A3AA-D5F690FC4D7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207308-0E0F-4DE6-9DE2-04567956D2A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9B0621-5F2F-4123-841F-2708A25533D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5BE5D1-21D4-43F9-A59A-1633DE1DD15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E15CE5-A846-4993-BE1E-625FDA8AD20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A09062-566B-463C-9171-CDB85BFB3B6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17924B-A0C6-4E65-99F8-A64C4F605F8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68CC29-54D6-4BBE-BEA2-D1590728B7E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7F74CB-1155-4C58-84A0-ACF1E2DDE1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0E54A-2E32-4990-9F68-00D17787BB6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DAE74F-43B8-4CC7-8C08-2D4785D3FB0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FA0696-247E-4917-8B48-EB745481654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D3B6C2-0494-4AB6-9A80-E260C6142FE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7FD4A4-112E-4E90-BB40-E8B04FCBC95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7BDB8A-DC7E-4E2D-8F55-54D84B6DC9A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BF440B-9375-459C-8BF9-B299948146A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A4A689-A696-41BD-9642-A37933C0E1E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B5A3F-B4A9-44F3-A8CE-156BD672B56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75394-7F31-4DEF-9139-32A7F5CF684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BA18A-B2D2-47B7-99FA-B399F6D33E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179D58F-B5EE-497F-A01E-97C16A788A9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ACCF30-D43A-4412-92B3-E7112ED2950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175496-0B02-410E-B18C-E30A983DAE8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D63969F-960A-41C7-A178-31C8470ED16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1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1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CB8D95-B6D1-4B06-8949-6E0709FDE4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9F8E59-A6F1-453E-B5D8-36B7F77AA17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12FF4E-C7A4-4877-8D02-AB1D9D51445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B26C16F-3914-4C61-AFCC-1FB93A0F778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B8014D-E9FA-4265-988F-55DA9315A01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094A25-ECD8-47E4-9A11-26FD68A2292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7FD9EA-9CDA-4E16-B10F-5201C930BB3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1C4FF2-E7B3-414F-BB39-E5FC890FF70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7FDC75-D003-440A-888B-71ACD616E3A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 Ακαδημαϊκού Έτους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3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-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4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332000" y="4437000"/>
            <a:ext cx="687528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26920" y="5805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Παναγιώτης Ν. Μαντάς-Σπυριδούλα Κατσαντών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Philip Whitaker (2007) μελέτησε τις στάσεις και τις απόψεις των γονέων απέναντι στ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ιδιά με αυτισμό τα οποία λαμβάνουν εκπαίδευση σε σχολεία γενικής εκπαίδευσης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α αποτελέσματα της έρευνάς τους έδειξαν ότι οι περισσότεροι απ’ τους συμμετέχοντες γονεί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ίναι ικανοποιημένοι απ’ τη μέριμνα για την εκπαίδευση των παιδιών του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24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25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Ωστόσο τόσο οι ικανοποιημένοι γονείς όσο κι η ομάδα των γονέων που δεν ήτα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ικανοποιημένοι αναφέρθηκαν στην κατανόηση που το παιδί τους λαμβάνει απ’ το προσωπικό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ου παρέχει τη μέριμνα και η κατανόηση του παιδιού τους ήταν υψίστης προτεραιότητας κ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ια τις δύο ομάδες. Οι ανησυχίες για το επίπεδο κατανόησης αποτελούσε σαφώς ενδεχόμεν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ηγή στρες και αγωνίας και για τις δύο ομάδες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33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34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7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395280" y="1392120"/>
            <a:ext cx="8280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γονείς δεν φαίνεται να αναμένουν απ’ το προσωπικό της γενικής εκπαίδευσης να έχει εξειδικευμένε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νώσεις για συγκεκριμένες προσεγγίσεις στη διδασκαλία παιδιών με αυτισμό και εκτός απ’ τ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να θέλουν άμεση διδασκαλία για την ανάπτυξη κοινωνικών δεξιοτήτων, δεν φαίνονταν ν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ζητούν ουσιώδη τροποποίηση στη διδακτέα ύλη ώστε να ληφθούν υπόψη οι δυσκολίες π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ετίζονται με τον αυτισμό των παιδιώ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2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3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6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λληλα, σε έρευνα των Turnbull et al. (2002) διαπιστώθηκε πως οι θετικές στάσεις από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ονείς παιδιών με πιο σοβαρές ειδικές ανάγκες απέναντι στην ένταξη φαίνεται να είναι 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νόνας. 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5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5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0" y="162864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395280" y="1125360"/>
            <a:ext cx="8353440" cy="46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ια παράδειγμα, αρκετές μελέτες με γονείς παιδιών με σοβαρές ειδικές ανάγκες σ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ογράμματα ένταξης από την προσχολική ηλικία έως και το Γυμνάσιο έδειξαν ότι οι γονεί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υποστήριζαν την τοποθέτηση των παιδιών τους σ’ αυτά και εξέφρασαν ικανοποίηση για τ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ποτελέσματα της εκπαίδευσης, ιδιαίτερα για τα κοινωνικά οφέλη (Gallagher et al., 2000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line &amp; Halvorsen, 1989; McDonell, 1987; Palmer, Borthwick-Duffy, &amp; Widaman, 1998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60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61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4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φορικά με την ικανοποίηση των γονέων από τα εκπαιδευτικά προγράμματα παρέμβασ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α παιδιά με ειδικές εκπαιδευτικές ανάγκες στην διεθνή βιβλιογραφία, παρατηρείται υψηλό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βαθμός ικανοποίησης και διατυπώνονται θετικές στάσεις και απόψε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McNaughton,1994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William et all.,1995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69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70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3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γκεκριμένα, σε έρευνα που πραγματοποιήθηκε στον Καναδά και μετρούσε τον βαθμό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ικανοποίησης των γονέων για τα προγράμματα παρέμβασης, οι γονείς εξέφρασαν μεγάλ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ικανοποίηση και δήλωσαν αρκετά ευχαριστημένοι από το εκπαιδευτικό έργο που παρέχεται στ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ολείο του παιδιού τους ( Falbo et.all,2003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78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79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324000" y="981000"/>
            <a:ext cx="864072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λληλα ,σε άλλη έρευνα, που μετρούσε την ικανοποίηση των γονέων σχετικά με τη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οιότητα των εκπαιδευτικών υπηρεσιών, βρέθηκε μεγάλος βαθμός ικανοποίησης ο οποίο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νδέεται με την αποτελεσματική επικοινωνία του σχολείου με τον γονέα ,καθώς και τη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παρκή πληροφόρηση των ίδιων από τους εκπαιδευτικούς(Bailey et all., 2003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87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88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1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324000" y="981000"/>
            <a:ext cx="864072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πό την άλλη πλευρά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άποιοι άλλοι ερευνητές ανέφεραν ότι μερικοί γονείς παιδιών με σοβαρές ειδ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άγκες δεν είναι υπέρ της ένταξη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Palmer, Fuller, Arora, &amp; Nelson, 200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96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97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0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1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ρευνα που έγινε σε πολιτεία των ΗΠΑ (Mandell &amp; Salzer, 2007) έδειξε ότι οι γονείς παιδιώ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 πιο σοβαρές αναπηρίες τα οποία συμμετείχαν σε τμήματα ένταξης, ανέφεραν αρνητ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άσεις η εμπειρίες ως προς την τοποθέτηση των παιδιών τους, καθώς οι υπηρεσίες π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έχονταν τα παιδιά τους στο περιβάλλον γενικής εκπαίδευσης χαρακτηρίστηκαν αδύναμες κ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εδόν ακατάλληλε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05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06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0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863640" y="1392120"/>
            <a:ext cx="759600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Απόψεις Γονέων παιδιών με ειδικές εκπαιδευτικές ανάγκες για την ένταξη των μαθητών  με εεα/αναπηρίες 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5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5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147636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1332000" y="467532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</a:t>
            </a:r>
            <a:r>
              <a:rPr b="1" lang="el-GR" sz="2800" spc="-1" strike="noStrike">
                <a:solidFill>
                  <a:srgbClr val="000099"/>
                </a:solidFill>
                <a:latin typeface="Arial"/>
                <a:ea typeface="Arial"/>
              </a:rPr>
              <a:t>: </a:t>
            </a: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Παναγιώτης Ν. Μαντάς-Κατσαντώνη Σπυριδούλ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Άλλες ανησυχίες που αναφέρθηκαν από γονείς παιδιών με ειδικές εκπαιδευτικές ανάγκες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μπεριλαμβάνουν ανησυχίες για λεκτική και σωματική κακομεταχείριση από τα άλλα παιδιά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οινωνική απομόνωση, και απώλεια ή μείωση των υπηρεσιών και της ποιότητας τ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ίδευσης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Donnell, 1987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14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15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971640" y="184464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539640" y="1392120"/>
            <a:ext cx="8353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Palmer et al. (2001) ανέφεραν ότι οι γονείς ανησυχούσαν ότι η σοβαρότητα της αναπηρίας του παιδιού τους εμπόδιζε τα οφέλη που θα μπορούσαν ν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ίχαν από την ένταξη, ότι η ένταξη θα μπορούσε να εξουθενώσει τους εκπαιδευτικούς της γενικής εκπαίδευσης ή τους μαθητές, και ότι το παιδί συμπεριφορικά ήταν υπερβολικά διασπαστικό και θα μπορούσε να πληγώσει τους άλλους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όμοιες ανησυχίες από Αυστραλούς γονείς αναφέρθηκαν και από τον Jenkinson (1998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23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24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971640" y="126828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 τις ανησυχίες που εξέφρασαν κάποιοι γονείς, σε έρευνα του Philip Whitaker (2007)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θεωρήθηκε εξίσου σημαντικό για τους γονείς το γεγονός ότι το προσωπικό θα πρέπει να έχε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άποια αίσθηση για το τι βρίσκεται κάτω απ’ τις προκλήσεις και τις δυσκολίες π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ουσιάζονται για το παιδί αλλά και κάτω από τις εμπειρίες που αυτό βιώνε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32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33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6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7" name=""/>
          <p:cNvSpPr/>
          <p:nvPr/>
        </p:nvSpPr>
        <p:spPr>
          <a:xfrm>
            <a:off x="1042920" y="213372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324000" y="981000"/>
            <a:ext cx="849600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ην ίδια έρευνα, σημειώθηκε πως υψίστης προτεραιότητας για τους γονείς ήταν η ανάπτυξ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οινωνικών δεξιοτήτων του παιδιού τους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γονείς διαφοροποιούνταν επίσης ως προς τ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φιλοδοξίες τους σχετικά με την κοινωνική ανάπτυξη των παιδιών τους και τις σχέσεις τους μ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υς συνομηλίκους του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4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4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179280" y="981000"/>
            <a:ext cx="849636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ενικότερα, αν και υπάρχουν πολλά στοιχεία που αναφέρουν ότι οι στάσεις των γονέω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πέναντι στην ένταξη καθορίζονται από διάφορους παράγοντες, δημογραφικά χαρακτηριστικά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κοινωνικοπολιτιστικά πλαίσια (Sigel et al., 1992)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Stoiber (1992) αναφέρει ότι οι στάσε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οι αντιλήψεις των γονέων παιδιών με ειδικές εκπαιδευτικές ανάγκες για την ένταξ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νήθως βασίζονται σε δικές τους προσωπικές εμπειρίες και τείνουν να χαρακτηρίζοντ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θετικές και ικανοποιητικέ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50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51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4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395280" y="3573360"/>
            <a:ext cx="813744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320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/>
          <p:nvPr/>
        </p:nvSpPr>
        <p:spPr>
          <a:xfrm>
            <a:off x="611280" y="59500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Παναγιώτης Ν. Μαντάς-Κατσαντώνη Σπυριδούλ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79280" y="5084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468360" y="1392120"/>
            <a:ext cx="79912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όσο στην Ευρώπη όσο και στις ΗΠΑ κατά την τελευταία δεκαετία, η νομοθεσία έχει δώσε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μφαση στα δικαιώματα των γονέων ώστε αυτοί να εκφράζουν τις προτιμήσεις και τις απόψε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υς και να κάνουν επιλογές όσον αφορ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ν τύπο του σχολείου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 μέριμνα που γίνεται για να διευθετηθούν οι ειδ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ές ανάγκες των παιδιών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6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6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εμπειρίες των γονέων και οι αντιλήψεις τους για τη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νταξη  επηρεάζουν σημαντικά τη διαμόρφωση της μελλοντική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έριμνας για τα παιδιά με ειδικές εκπαιδευτικές ανάγκες και ιδιαίτερα την έκταση και τη φύσ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ποιονδήποτε περαιτέρω κινήσεων προς την επίτευξη αποτελεσματικότερης ένταξη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70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71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γονείς παίζουν σημαντικό ρόλο στη διαδικασία της ένταξης. Σε πολλές χώρες ο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ταρρυθμίσεις και οι κανονισμοί που αφορούν την ειδική εκπαίδευση παρέχουν οδηγίες γι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ν ενεργή εμπλοκή και συμμετοχή των γονέων στην εκπαίδευση των παιδιών τους ενώ κατά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ις τελευταίες δύο δεκαετίες έχουν γίνει αρκετές μελέτες που εξετάζουν τις απόψεις και τ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ησυχίες των γονέω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79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80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γονείς θεωρούνται οι πιο κατάλληλοι αξιολογητές τόσο της εκπαιδευτικής διαδικασίας όσο και των εκπαιδευτικών υπηρεσιών που δέχονται τα παιδιά τους από τους εκπαιδευτικούς γενικής και ειδικής εκπαίδευση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Jinnah&amp;Walters,2008). (Lindsay&amp;Dockrell,2004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88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89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1042920" y="1484280"/>
            <a:ext cx="7596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οσδοκίες και οι απαιτήσεις των γονέων ως προς την εκπαιδευτική δράση και τ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ές υπηρεσίες που προσφέρονται στο παιδί τους, αποτελούν τον βασικότερ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γοντα για μια επιτυχημένη εκπαιδευτική διαδικασία(Lindsay&amp;Dockrell,2004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97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98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1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250920" y="1197000"/>
            <a:ext cx="8642160" cy="45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τρέχοντας σε παλαιότερες βιβλιογραφικές αναφορές, έρευνες έχουν δείξει (McDonnell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1987; Ryndak, Downing, Jacqueline &amp; Morisson, 1995) πως οι γονείς παιδιών με ειδ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ές ανάγκες διατυπώνουν γενικά θετικές απόψεις και αντιλήψεις προς την ένταξη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06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07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0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250920" y="1197000"/>
            <a:ext cx="8642160" cy="45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ε σχετικά πρόσφατη έρευνα που πραγματοποιήθηκε από τους Leyser and Kirk (2004) βρήκ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υψηλότερα ποσοστά υποστήριξης από τους γονείς παιδιών με ήπιες αναπηρίες σε σύγκριση μ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ονείς παιδιών με πιο βαριάς μορφής αναπηρίε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15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16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8:34:10Z</dcterms:created>
  <dc:creator>Maria Petmesidou</dc:creator>
  <dc:description/>
  <dc:language>en-US</dc:language>
  <cp:lastModifiedBy/>
  <dcterms:modified xsi:type="dcterms:W3CDTF">2023-10-18T20:15:06Z</dcterms:modified>
  <cp:revision>154</cp:revision>
  <dc:subject/>
  <dc:title>Παρουσίαση του PowerPoint</dc:title>
</cp:coreProperties>
</file>